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56C1-ED30-4716-8AFA-60AA39E9B99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BD54-A210-4C19-AAF1-88150DF0CDD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3C5B-090E-435B-8D98-03DDE562F2D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DE0D-C866-4CD1-937E-B4CCDD1177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6AC8-993B-4808-8E72-0658F035DC9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A11E-74E7-4E66-BE6E-9771734C9EB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9A8A-B384-40BE-92AA-25A2B40A6CE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6571-F8CA-427A-8D05-A8AF0F8DE8E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6FA0-8203-4931-B96F-F517829034C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3BDC-F420-45FF-A61A-DC2453776D2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8851-B096-4636-BF1C-80F80E01C29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16AD-6941-42A1-9E6C-81AC73F5B30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575F-60B4-4B9D-AB32-979304212A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36EE-A5CE-40F8-92DB-BE6E6F11BFB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597B-704E-43AF-BE1C-FB30B76712B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8123-E750-4FE5-A893-6C51274B030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EE9B-E975-4164-8966-6317898FC94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A016-70C7-4123-94A3-8E6DDA25B36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3630-52DC-401A-99F6-B4FB3569A37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085E-2704-4C22-B278-B42D003A33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CAEB-4FAA-4E5F-8326-E78E6FBC10B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1C7E-B6C5-4820-B2B0-FD06F8DCA99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2FAD-2499-4A7C-9B65-D4C3E71857C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6C08-710C-4BFC-A31C-D8300CEECD4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BACE-CDDC-4BE0-BF3C-F0A4942986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4BB2-3251-4CD8-B7DF-23CF7BFA06E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F80D-C6BD-4D51-BA00-FAC49A51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F664-49C5-4BCA-B582-C4AFDBEB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DF44-8948-4614-85A1-ED2D8075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DDAA-4460-4C03-BEA8-C00A6B82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5961-59D5-485F-9EFA-D9FB5CF2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4177-7E07-4014-990F-4F9C742A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8E6E-1611-4AE9-99F7-CA86277E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9126-F091-4F05-A6FD-F820E284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3342-04A4-4169-BCCE-0EC50B10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ECFE-088A-4884-97FA-1D4938B8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C341-A7E9-4873-85D7-D825E26C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C028-CFEA-429A-B7DE-91239D85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DEA8-644B-4729-85EA-EFE41869587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Seminář pro příjemce OP LZZ</a:t>
            </a:r>
            <a:br>
              <a:rPr sz="3600"/>
            </a:b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Výzva č. 77 a 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11. 12. 2012 Pra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rojektu a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Registrační číslo a název projektu, číslo MZ, datum jejího vypracování, Hash MZ v Benefit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d367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říjemci a zhotoviteli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zev Příjemce, IČ, statutární zástupce, jméno, příjmení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a kontaktní údaje zhotovitele zpráv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ealizované klíčové aktivity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Číslo, název, období realizace klíčové aktivity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popis realizované klíčové aktiv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4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blémy při realiza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roblémů při realizaci projektu a jejich řešení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5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podstatné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řípadných formálních a věcných změn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změn v rozpočt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6.   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projektu podle bodu 15 části II Rozhodnutí o poskytnut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Změny ve způsobu provádění klíčových aktivit a klíčových pozic realizačního týmu – v případě, že bod 15 části II Rozhodnutí se odkazuje na klíčové aktivity a realizační tý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7. Podstatné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případných podstatných změn ve sledovaném období, zda byly odsouhlaseny a čeho se týk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8. Další informace 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yplňuje se pouze v případě, že byla provedena kontrola na Vašem projektu 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  <a:ea typeface="Arial"/>
              </a:rPr>
              <a:t>jiným subjektem, než poskytovatelem podpory (např. NKÚ, EK, FÚ, atd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dpis statutárního zástupce nebo oprávněné oso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řílohy 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8360" y="1197000"/>
          <a:ext cx="8207280" cy="5075280"/>
        </p:xfrm>
        <a:graphic>
          <a:graphicData uri="http://schemas.openxmlformats.org/drawingml/2006/table">
            <a:tbl>
              <a:tblPr/>
              <a:tblGrid>
                <a:gridCol w="574560"/>
                <a:gridCol w="4321080"/>
                <a:gridCol w="1656000"/>
                <a:gridCol w="1655640"/>
              </a:tblGrid>
              <a:tr h="3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k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č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dpisové 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Soupiska účetních do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Kopie účetních dokladů nad 10 tis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racovní výkaz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mzdových ná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cestovních náh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Odpis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ýpisy z bank. úč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řehled čerp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uditorská zpráva </a:t>
                      </a:r>
                      <a:r>
                        <a:rPr b="1" lang="cs-CZ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pouze pokud je povinnost provést audit stanovená v Rozhodnutí o poskytnutí dota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alší přílohy – např. prezenční listiny, programy akcí, letáky, inzeráty, tisk. zprávy, publikace a jiné výstupy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 nebo kop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26"/>
          <p:cNvSpPr/>
          <p:nvPr/>
        </p:nvSpPr>
        <p:spPr>
          <a:xfrm>
            <a:off x="53964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měny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d1131c"/>
                </a:solidFill>
                <a:latin typeface="Arial"/>
                <a:ea typeface="Arial"/>
              </a:rPr>
              <a:t>Druhy změn v projekte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v nejbližší M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od jejího vzni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žádostí o podstatnou změnu v tištěné a elektronické podobě (formulář ke stažení na www.esfcr.cz/file/7588 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schválením této žádosti, tj. datem podpisu oprávněné osoby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nutné informovat poskytovatele v nejbližší monitorovací zprávě o provedených změnách včetně řádného zdůvod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formálního a věcného charakte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ch údaj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), sídla a statutárního zástupce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podp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 osoby projektu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harmonogramu realizace, která neovlivní spl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cíl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ani monitorovacích indikáto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projektu – doložit v 1.části MZ přepracovaný harmon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uza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a 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(formálního charakteru) smluv s partn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auditora (v případě povinnosti provést aud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rozpočtu: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tv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nové pol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ky v rozp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/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. její vynulování za podmínky,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 neznamená za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tek nové aktivity, resp. zruš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 uko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stávající kl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é ak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výšení jednotkových cen (změna musí být hospodárná, efektiv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řesun pr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mezi jednotlivými kapitolami do výše 15 % objemu původního rozpočtu kapitoly, z níž jsou finanční prostředky přesouvá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eškeré změny nutné zohlednit ve všech částech MZ a jejích příloh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aktéž je nutné se řídit cenami v místě, čase a odvětví obvyklých (dostupné na www.esfcr.cz, součástí vý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83808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ny, které ovlivní cíle, obsah nebo za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ř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ení projektu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 zakládají změnu právního aktu, tudíž je potřeba podat žádost o změ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ulář žádosti na www.esfcr.cz/file/7588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nejpozději 30 dnů před ukončením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dstatné změny nelze provést před odsouhlasením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v listinné i elektronické podobě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762120" y="2362320"/>
            <a:ext cx="6324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9528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14407e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pokud si příjemce není jistý, zda jeho zamýšlená změna je podstatná, doporučujeme konzultovat s poskytovat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data ukonče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týkající se monitorovacích indikátorů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artn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bankovního účtu organiza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kapitolami vyšší než 15 %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bjemu původního rozpočtu kapitoly, z níž jsou finanční prostředky přesouvány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položkami na neinvestiční a investiční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avýšení či snížení kapitoly křížové finan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rávní formy příjemce, sloučení s jinou právnickou oso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gram seminář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77709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12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Zahájení semináře (9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1:  (9:05 – 10:00 )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yplňování MZ a ŽoP v Benefit 7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(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: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0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10 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2: (cca 10:10 – 12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ecné informace k MZ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 metodická čá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ěny, nepřímé náklady, partnerstv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ovací indiká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ubli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na oběd ( 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2:0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20 - 3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3:  ( cca 12:30 – 13:40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nanční část MZ + 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( 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3:4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1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4: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(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cca od 13:5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dávání zakázek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+ 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eřejná podpora - de minim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Závěr semináře (cca 16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131c"/>
                </a:solidFill>
                <a:latin typeface="Arial"/>
                <a:ea typeface="Arial"/>
              </a:rPr>
              <a:t>Partner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artnerství (1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907920"/>
            <a:ext cx="822960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artneři projekt společně vytvářejí – podílejí se na zpracování projektové žádosti, a následně na realizaci věcných projektových aktivit. Jsou to takové aktivity, bez jejichž realizace by nebylo možné zajistit řádné fungování a naplňování cíle projektu, proto je spoluúčast všech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partnerů na projektu podstatná a nezastupitel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nesmí být založena na poskytování služeb, dodávce zboží atd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Dva typy partnerstv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artner s finančním příspěvkem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– tento typ partnera přijímá prostřednictvím příjemce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část finanční podpory na realizaci věcných projektových aktivi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artner bez finančního příspěvku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– tento typ partnera se podílí na realizaci věcných aktivit projektu, např. formou konzultací, odborné garance apod., ale není mu poskytován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žádný finanční příspěvek za účast na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artnerství (2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765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s českými partne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musí být předložena nejpozději s 1. průběžnou monitorovací zprá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a o partnerství může být uzavřena pouze s partnery, kteří jsou uvedeni v příloze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mětem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smlou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 úprava postavení příjemce a jeho českých partner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ymezení aktivit, jimiž se podílejí na projekt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úprava jejich vzájemných práv a povinností při naplňování účelu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odpovědnost za porušení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ukončení spolu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 (rozdělení </a:t>
            </a:r>
            <a:r>
              <a:rPr b="1" lang="pl-PL" sz="1600" spc="-1" strike="noStrike">
                <a:solidFill>
                  <a:srgbClr val="143f7e"/>
                </a:solidFill>
                <a:latin typeface="Arial"/>
              </a:rPr>
              <a:t>nákladů připadají na příjemce podpory a jaké na jednotlivé partnery) ap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Vzor smlouvy </a:t>
            </a:r>
            <a:r>
              <a:rPr b="1" i="1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http://www.esfcr.cz/07-13/oplzz/dokumenty-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V případě více českých partnerů je smlouva o partnerství smlouvou vícestrannou </a:t>
            </a: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mezi příjemcem podpory a všemi jeho partnery – je možné uzavřít pouze jednu smlouvu, pokud je to možné dle záko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cování zahraničních partne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Arial"/>
              </a:rPr>
              <a:t>Zahraniční partner je vždy partnerem bez finančního příspěv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Arial"/>
              </a:rPr>
              <a:t>Zahraniční partneři si musí sami zajistit financování aktivit, k jejichž zajištění se zavazují v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ě o mezinárodní spoluprá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(kromě zdrojů z ESF i jiné zdroje financování, např. vlastní zdroje, národní financování nebo jiný druh financování z rozpočtu EU)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droje financování zahraniční partner už dále nedoklád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ýjimka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– způsobilými výdaji mohou být výdaje na cestovné, ubytování a stravu (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Per-diems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) v případě, že zahraniční partner např. prezentuje na mezinárodní konferenci v ČR nebo jiným způsobem předává zkušenosti partnerům v ČR, podrobněji viz Metodika způsobilých výdajů OP LZZ (D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Neplnění závazků /odstoupení zahraničního partnera u projektů v 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oblasti podpory 5.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statná změna projektu, musí být schvá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souzení další smysluplnosti a realizovatelnosti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dstoupení zahraničního partnera = ukončení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klady, které  nejsou nebo nemohou být přímo spojené s konkrétní aktivitou daného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Zahrnují náklady spojené s administrací projektu či vznikající při běžné činnosti organizace při práci s cílovou skupinou příjemce nebo českého partn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smí být zaúčtovány společně s přímými nákla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Sazba nepřímých nákladů je vyjádřena % jehož výši naleznete v Rozhodnutí o poskytnutí dotace v Část II Povinnosti příjemce dotace bod 6.2.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roplaceny postupně ve výši % podílu ze skutečně vynaložených a prokázaných přímých nákladů projekt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mezení nepřímých náklad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(metodika D5 bod 2.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edení účetnictví vč. mezd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opírování, t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prava a údržba zařízení a vybavení a nemovit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ajištění publicity pomoci z ESF (povinné minimum publi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Nákup spotřebního a kancelářského materi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Bankovní poplat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Energie, vodné, stočné v prostorech kancelář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straha a  pojištění majetku využívaného k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Cestovní náhrady spojené s vnitrostátními pracovními ces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Obecné informace k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Typy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0592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Průběž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Mimořád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Závěreč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odrobnější informace o monitorovacích zprávách naleznete v příručkách – D2 (kapitola 14.) a D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ředkládání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280" y="1125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Předkládání MZ je dáno bodem 5.3 části II Rozhodnutí o poskytnutí dotace a Příručkou pro příjemce (D2) a Pokyny pro vyplnění MZ (D1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1. Průběžná monitorovací zpráv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77 (3.kolo)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4 měsíců realizace projektu (1. – 4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88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3 měsíců realizace projektu (1. – 3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2. Průběžná monitorovací zpráv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 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77 (3.kolo)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dalších 3 měsíců realizace projektu (5. - 7. měsíc), předkládá se do 15-ti kalendářních dnů od ukončeného monitorovacího období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 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88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3 měsíců realizace projektu (4. – 6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Další průběžné monitorovací zprávy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– nejméně jednou za každých 6. měsíců realizace projektu, předkládá se do 30-ti kalendářních dnů od ukončeného monitorovacího období. V případě domluvy s kontaktní osobou je možné předložit </a:t>
            </a: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„mimořádnou monitorovací zprávu“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kratší sledované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Závěrečná monitorovací zprávy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– předkládá se do 2 měsíců po ukončení realizace projekt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Monitorovací zprávy (průběžné, mimořádné závěrečná) se skládají ze 2 částí + příloh k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1. část v Benefit 7+ a 2. část MZ ve Word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řílohy k finanční čá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2. část MZ a přílohy ke stažení na http://www.esfcr.cz/folder/4968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musí být předložena vždy, pokud v daném monitorovacím období realizoval příjemce způsobilé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nelze předložit samostatně bez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vinnost archivace MZ a žádostí o platbu příjem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Každá monitorovací zpráva musí být doložena jak v listinné tak v elektronické podo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růběžná MZ, Mimořádná MZ a ZM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 el. Podobě v Benefit 7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řílohy nutné nahrát do Benefit 7+ k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Rozhodující je datum doručení zprávy poskytovateli podpory nikoliv datum odeslání zásil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růběžná MZ, Mimořádná MZ a ZMZ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1. a 2. část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Obsahuje následující úd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formace o projektu a MZ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dikátory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ýběrová řízení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ublicit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Rozpočet projektu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Zdroje financování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Finanční plán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rioritní tém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Harmonogram realizace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spcAft>
                <a:spcPts val="601"/>
              </a:spcAft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říloh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odrobně viz. Předchozí prezentace Benefit 7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eliska.dobra</cp:lastModifiedBy>
  <dcterms:modified xsi:type="dcterms:W3CDTF">2012-12-19T09:13:43Z</dcterms:modified>
  <cp:revision>410</cp:revision>
  <dc:subject/>
  <dc:title>Snímek 1</dc:title>
</cp:coreProperties>
</file>